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9AD-3733-41FF-921F-10CC0EA9F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F3AF-1979-40B6-8D12-71CC49D7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6E6F-3F31-4A00-8338-7F3134B0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83FF-4F88-4A52-969D-4BCE6818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6897-C05E-4321-B48C-9E0EE29AF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71A5-7DF4-473A-B1CD-09DA5B52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0C2E-A002-48C1-A904-DFF39844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A74E-072B-42A2-AA50-E4BF08423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C74E-3C20-4D52-883F-7E59985F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29D2-4E54-4390-917D-CFA5753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B638-69BD-4398-B46E-E1953B6D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098-BA97-43A6-9786-98DE4DCD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45DC-0EFF-4CE2-8AD8-14FF2F8D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6104-1154-46B5-AACF-DAA8810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CFBD-59E7-4555-918B-2262352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D613-B6BA-44B6-861B-41EBFF279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68D-D77B-4E18-A338-571C1C1FC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BA3-D443-45BC-B584-F4185582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5009-97ED-4970-AC48-EBE6AC8F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4124-8185-4987-98AC-07A5560A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7044-2413-442D-8168-8AB85DE6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ED7D-68C3-4C1D-96CD-1AEF26D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97CC-C8F9-48CC-BF09-30FBDFF7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48CB-8B77-45D2-889D-A03AE38B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4791-C594-43BD-8C38-950F20DAEE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66B1-3144-4A7E-B972-E45AFD1C48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starter%20-%20map%20-%20geog.flp" TargetMode="External"/><Relationship Id="rId2" Type="http://schemas.openxmlformats.org/officeDocument/2006/relationships/hyperlink" Target="file:///starter%20-%20map%20-%20geog.flp" TargetMode="External"/><Relationship Id="rId3" Type="http://schemas.openxmlformats.org/officeDocument/2006/relationships/hyperlink" Target="file:///animaux%20endanger%20into.ppt" TargetMode="External"/><Relationship Id="rId4" Type="http://schemas.openxmlformats.org/officeDocument/2006/relationships/hyperlink" Target="file:///animaux%20endanger%20into.ppt" TargetMode="External"/><Relationship Id="rId5" Type="http://schemas.openxmlformats.org/officeDocument/2006/relationships/hyperlink" Target="file:///animaux%20endanger%20into.ppt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cest%20qui.ppt" TargetMode="External"/><Relationship Id="rId2" Type="http://schemas.openxmlformats.org/officeDocument/2006/relationships/hyperlink" Target="file:///clouds-quel%20animal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815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nimals but not as we know i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es animaux en danger: Animals with a tw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d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troduce the children to animals and descriptions in a more interesting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troduce the Global Dimension into MF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introduce a cross-curricular the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ere and when I used i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a came from ALL publication Deutsch Lehren und Lerne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Year 7 pupils within the topic of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uld be used at anytime in Year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Trouves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 les conti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es 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animaux</a:t>
            </a:r>
            <a:r>
              <a:rPr b="0" lang="en-GB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 en dang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orking with the langua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ilding sent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orking at t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ing / Listening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Clou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guistic Outp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upport sheet / independent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ate a ppt / video / glogster to inform people about endangered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Video making – Windows Moviemak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Glogster – www.glogster.com (create and educator accou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glog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g 1 Glog 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8T19:56:49Z</dcterms:created>
  <dc:creator>Helena</dc:creator>
  <dc:description/>
  <dc:language>en-US</dc:language>
  <cp:lastModifiedBy>Helena</cp:lastModifiedBy>
  <dcterms:modified xsi:type="dcterms:W3CDTF">2010-06-28T20:47:19Z</dcterms:modified>
  <cp:revision>2</cp:revision>
  <dc:subject/>
  <dc:title>Animals but not as we know it</dc:title>
</cp:coreProperties>
</file>